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0761E4-881B-4440-961E-308EBA61BA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694FA3-F6C8-4190-8FD7-1FB3BB4E93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CD8128-81CF-4D87-8F52-E5D68A3C05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2ced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a Deliberação CBHSF nº 56/20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TCOB/CNRH, 28 de abril de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2720880" y="332640"/>
            <a:ext cx="403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Valores d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19360"/>
            <a:ext cx="9906120" cy="1474560"/>
          </a:xfrm>
          <a:prstGeom prst="rect">
            <a:avLst/>
          </a:pr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azão medida anualmente for menor que 26,4 m³/s, a base de cálculo é Q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(26,4 m³/s) e K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é 0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Valor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Trans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R$ 12.488.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5840" y="3902760"/>
            <a:ext cx="9906120" cy="1859400"/>
          </a:xfrm>
          <a:prstGeom prst="rect">
            <a:avLst/>
          </a:prstGeom>
          <a:solidFill>
            <a:srgbClr val="3333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azão medida anualmente for maior que 26,4 m³/s, as distribuições de água entre os setores usuários somente serão conhecidas com a aprovação dos P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Valor</a:t>
            </a:r>
            <a:r>
              <a:rPr b="1" lang="pt-BR" sz="2800" spc="-1" strike="noStrike" baseline="-25000">
                <a:solidFill>
                  <a:srgbClr val="003366"/>
                </a:solidFill>
                <a:latin typeface="Times New Roman"/>
              </a:rPr>
              <a:t>Transp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 &gt; R$ 12.488.2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880" y="134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60520" y="3499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2073240" y="332640"/>
            <a:ext cx="532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mpactos sob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389680"/>
            <a:ext cx="9906120" cy="459720"/>
          </a:xfrm>
          <a:prstGeom prst="rect">
            <a:avLst/>
          </a:pr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á apresentados em outras No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15840" y="4039920"/>
            <a:ext cx="9906120" cy="1191240"/>
          </a:xfrm>
          <a:prstGeom prst="rect">
            <a:avLst/>
          </a:prstGeom>
          <a:solidFill>
            <a:srgbClr val="3333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xige conhecer o modo como a Cobrança, em cada Estado da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gião receptora, será rateada entre os setores, bem como o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hecimento dos usuários, seus custos e rece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88880" y="1504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60520" y="33044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419200"/>
            <a:ext cx="9632880" cy="1191240"/>
          </a:xfrm>
          <a:prstGeom prst="rect">
            <a:avLst/>
          </a:prstGeom>
          <a:solidFill>
            <a:srgbClr val="33996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do início da operação do PISF, a ANA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será responsável pela aprovação das tarifas a serem cobradas pela futura Entidade Operadora Federal (O&amp;M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88880" y="16279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86080"/>
            <a:ext cx="9632880" cy="1191240"/>
          </a:xfrm>
          <a:prstGeom prst="rect">
            <a:avLst/>
          </a:prstGeom>
          <a:solidFill>
            <a:srgbClr val="00ff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ara exercer estas atividades, a ANA elaborará os estudos necessários para, dentre outros, calcular os impactos dessas tarifas sobre usuários característicos dos diversos se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69720"/>
            <a:ext cx="9906120" cy="48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Art. 1º. Fica definido o critério complementar para o coeficiente multiplicador de cobrança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que é o coeficiente que leva em conta a prioridade de uso estabelecida no Plano de Recursos Hídricos da Bacia do Rio São Francisco, para alocações externas das águas da Bacia Hidrográfica do Rio São Francis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§1º O coeficiente multiplicador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terá o valor igual a 0,5 para a finalidade de abastecimento huma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§2º O coeficiente multiplicador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terá o valor igual a 1 para as demais finalidades de uso das águ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Art. 2º. Ficam mantidos os demais mecanismos e critérios, bem como as sugestões de valores e definições dispostos na Deliberação CBHSF nº4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8160" y="404640"/>
            <a:ext cx="76341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Delib. CBHSF nº 56, de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03440" y="38026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49593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04880" y="13708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08160" y="189000"/>
            <a:ext cx="76341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para usos externos (Delib. nº 40 + Delib. nº 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08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/ano, segundo valores da outo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2160" y="1297080"/>
            <a:ext cx="36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55720" y="1762200"/>
          <a:ext cx="8273880" cy="1090440"/>
        </p:xfrm>
        <a:graphic>
          <a:graphicData uri="http://schemas.openxmlformats.org/drawingml/2006/table">
            <a:tbl>
              <a:tblPr/>
              <a:tblGrid>
                <a:gridCol w="3986280"/>
                <a:gridCol w="1306440"/>
                <a:gridCol w="1303200"/>
                <a:gridCol w="1677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2"/>
          <p:cNvSpPr/>
          <p:nvPr/>
        </p:nvSpPr>
        <p:spPr>
          <a:xfrm>
            <a:off x="992160" y="2997360"/>
            <a:ext cx="331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49240" y="3500280"/>
          <a:ext cx="8280000" cy="2592360"/>
        </p:xfrm>
        <a:graphic>
          <a:graphicData uri="http://schemas.openxmlformats.org/drawingml/2006/table">
            <a:tbl>
              <a:tblPr/>
              <a:tblGrid>
                <a:gridCol w="4215240"/>
                <a:gridCol w="2373480"/>
                <a:gridCol w="1691280"/>
              </a:tblGrid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outras finalida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03440" y="34311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45878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04880" y="13708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5840" y="28263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, segundo valores da outo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49600" y="184464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10680" y="184464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49600" y="456876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10680" y="456876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0208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, para alocação externa de água, segundo dados de medi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81600" y="131112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 = 26,4 m³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5002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2894760"/>
            <a:ext cx="9906120" cy="18594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Portanto, enquanto o volume utilizado segundo dados de medição for inferior à vazão firme outorgada a qualquer tempo, a base de cálculo será Q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, ou seja, o volume correspondente a 26,4 m³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628280"/>
            <a:ext cx="9906120" cy="947160"/>
          </a:xfrm>
          <a:prstGeom prst="rect">
            <a:avLst/>
          </a:prstGeom>
          <a:solidFill>
            <a:srgbClr val="0000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O valor da outorga é de 26,4 m³/s, para finalidades de abastecimento humano e dessedentação a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5054760"/>
            <a:ext cx="9906120" cy="10062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o volume segundo dados de medição for maior que a vazão firme outorgada, a base de cálculo será Q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502812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olume medido for superior a 26,4 m³/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0,5 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43117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272304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Antes da entrada em operação e até que o volume medido seja superior a 26,4 m³/s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26,4 m³/s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49600" y="1886040"/>
            <a:ext cx="71892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10680" y="1886040"/>
            <a:ext cx="1079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9600" y="429264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10680" y="429264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88880" y="134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60520" y="37728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60520" y="134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68400"/>
            <a:ext cx="9906120" cy="2399040"/>
          </a:xfrm>
          <a:prstGeom prst="rect">
            <a:avLst/>
          </a:prstGeom>
          <a:solidFill>
            <a:srgbClr val="3333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Para calcular a Cobrança, a ANA deverá adotar um critério de parcelamento de Q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ahoma"/>
                <a:ea typeface="Times New Roman"/>
              </a:rPr>
              <a:t>MED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 em duas par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- Volume correspondente ao abastecimento humano e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dessedentação anima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- Volume correspondente às demais final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16640"/>
            <a:ext cx="9906120" cy="560880"/>
          </a:xfrm>
          <a:prstGeom prst="rect">
            <a:avLst/>
          </a:prstGeom>
          <a:solidFill>
            <a:srgbClr val="339966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A cada parcela será aplicado o K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correspondente, 0,5 ou 1,0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37000"/>
            <a:ext cx="9906120" cy="886320"/>
          </a:xfrm>
          <a:prstGeom prst="rect">
            <a:avLst/>
          </a:prstGeom>
          <a:solidFill>
            <a:srgbClr val="33cc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ma possibilidade são as proporções correspondentes à repartição de vazões entre setores do Plano de Gestão Anual do PISF – PGA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5800" y="1776240"/>
            <a:ext cx="9201240" cy="3565800"/>
          </a:xfrm>
          <a:prstGeom prst="rect">
            <a:avLst/>
          </a:prstGeom>
          <a:solidFill>
            <a:srgbClr val="33cccc">
              <a:alpha val="7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É adequada a utilização de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um K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 maior para os usos com finalidades distintas de abastecimento humano e dessedentação animal...pois o uso da água da BHSF em alocações externas não é considerado prioritário pelo CBHSF, exceto para o abastecimento humano e a dessedentação animal em situações de escassez (Deliberação CBHSF nº 18, de 27 de outubro de 200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649600" y="332640"/>
            <a:ext cx="49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dequação do mec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giordanobruno</cp:lastModifiedBy>
  <cp:lastPrinted>2001-06-06T00:02:34Z</cp:lastPrinted>
  <dcterms:modified xsi:type="dcterms:W3CDTF">2011-04-26T20:53:06Z</dcterms:modified>
  <cp:revision>1332</cp:revision>
  <dc:subject/>
  <dc:title>Apresentação do PowerPoint</dc:title>
</cp:coreProperties>
</file>